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77E-B644-4ECD-BD29-43029E4E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9FD-478A-410F-A234-CF41BC90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356-0896-4C7B-A7F3-FB25C465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76F-0A6E-4B62-A27D-B2ACD0A8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60BA-23F4-493E-98A5-24D5C0E3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D470-D0F8-4541-82E9-E93C2E20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0EB8-2E7D-4BDF-8F4D-72E31301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DF6C-C57A-4354-9198-1811FB1D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1E74-F29A-40A0-B909-512221B0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2947-0EB5-4C64-84A2-CF828852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EB66-671C-4F4D-96F1-40B8C532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92B-BF9F-40D3-BF20-315BDC72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1EF5-20DA-4B73-AD07-6225AC54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5CEF-7192-4A6E-AA15-43487544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E51F-0591-4166-8ECA-02DCA56D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9B73-B979-4812-9DAB-82C8EEC1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8B0C-A14F-4006-AF56-F4C9B340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76D-5F3D-4A0F-BBDD-D3BD0CAA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728-E40B-459D-9610-30A7F188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F97-1780-47B5-8DE4-DACE5169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A7E-7AAA-4462-97BF-DF20B091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6D4-72E4-4786-91F5-420EE7F6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CB7-A922-438B-920C-BBF61511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BBD-EE18-4736-B891-D1E75A92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8AC9-2F0C-4E6D-AD9D-F91F16B10AD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A955-C737-4872-ACEE-054CE686B49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658800"/>
            <a:ext cx="86374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cc"/>
                </a:solidFill>
                <a:latin typeface="Adobe Garamond Pro Bold"/>
              </a:rPr>
              <a:t>Ijaz milkwal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9280" y="2550960"/>
            <a:ext cx="7485120" cy="19814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Country         :: Pakist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Me in class    ::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10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Arial"/>
              </a:rPr>
              <a:t>My interest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   :: drama, eng. fil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My favourite subject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: ar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334120"/>
            <a:ext cx="6858000" cy="1015920"/>
          </a:xfrm>
          <a:prstGeom prst="rect">
            <a:avLst/>
          </a:prstGeom>
          <a:solidFill>
            <a:srgbClr val="ffcc00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0" name="pakistan" descr=""/>
          <p:cNvPicPr/>
          <p:nvPr/>
        </p:nvPicPr>
        <p:blipFill>
          <a:blip r:embed="rId2"/>
          <a:stretch/>
        </p:blipFill>
        <p:spPr>
          <a:xfrm>
            <a:off x="7086600" y="533520"/>
            <a:ext cx="14508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6T23:59:03Z</dcterms:modified>
  <cp:revision>28</cp:revision>
  <dc:subject/>
  <dc:title>MR. HAROON </dc:title>
</cp:coreProperties>
</file>